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B7F-E37D-4629-92CC-BDFE4884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B87B-89F4-4B87-A9A8-3832A090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B7F-D34E-405E-A226-40C5D397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977-B21D-48C3-A63A-A050FCC6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4DC7-176B-4CF8-B8DA-FA9B6950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6C5-C89D-4954-8E05-4CAB57C8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22E-7F54-419B-A6A4-27FCDCF1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B49-0A16-4D1C-B57D-B04FFDCA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C40-3380-44CD-8134-60C130E5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BE2-C283-42AF-A35E-083C54A5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2243-BD7A-4F77-B0A2-83131BF8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857-37A8-4472-AEA8-2E09DE88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0C22-65FE-48B5-91BB-E80C2DFC5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he Buzz Word Bingo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the PowerPoint presentation to your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the file in Microsoft Power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 to Slide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the slide as many times as you nee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the title entry with your topic ti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each cell with the words or phrases you want the students to become familiar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the same for all the other sli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Slide #1 (this slide) when you are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ve the file when you are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lace Title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04920"/>
            <a:ext cx="807696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-2666520" y="3352680"/>
            <a:ext cx="624816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85800" y="1905120"/>
            <a:ext cx="7924680" cy="4114800"/>
            <a:chOff x="685800" y="1905120"/>
            <a:chExt cx="7924680" cy="4114800"/>
          </a:xfrm>
        </p:grpSpPr>
        <p:sp>
          <p:nvSpPr>
            <p:cNvPr id="47" name=""/>
            <p:cNvSpPr/>
            <p:nvPr/>
          </p:nvSpPr>
          <p:spPr>
            <a:xfrm>
              <a:off x="6904080" y="5197680"/>
              <a:ext cx="17064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49960" y="5197680"/>
              <a:ext cx="15541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94040" y="5197680"/>
              <a:ext cx="15559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5197680"/>
              <a:ext cx="13557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5197680"/>
              <a:ext cx="17524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904080" y="4373640"/>
              <a:ext cx="1706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49960" y="4373640"/>
              <a:ext cx="155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94040" y="4373640"/>
              <a:ext cx="155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4373640"/>
              <a:ext cx="1355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5800" y="4373640"/>
              <a:ext cx="175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04080" y="3551400"/>
              <a:ext cx="17064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49960" y="3551400"/>
              <a:ext cx="15541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94040" y="3551400"/>
              <a:ext cx="15559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38280" y="3551400"/>
              <a:ext cx="13557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3551400"/>
              <a:ext cx="17524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04080" y="2727720"/>
              <a:ext cx="170640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49960" y="2727720"/>
              <a:ext cx="1554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94040" y="2727720"/>
              <a:ext cx="15559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38280" y="2727720"/>
              <a:ext cx="13557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5800" y="2727720"/>
              <a:ext cx="17524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04080" y="1905120"/>
              <a:ext cx="17064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49960" y="1905120"/>
              <a:ext cx="15541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94040" y="1905120"/>
              <a:ext cx="15559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38280" y="1905120"/>
              <a:ext cx="1355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1905120"/>
              <a:ext cx="1752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nter word or phrase 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" y="1905120"/>
              <a:ext cx="7924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" y="272772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800" y="355140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" y="437364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519768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6019920"/>
              <a:ext cx="7924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1905120"/>
              <a:ext cx="0" cy="4114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3828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9404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4996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0408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610480" y="1905120"/>
              <a:ext cx="0" cy="4114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06:16:06Z</dcterms:created>
  <dc:creator>dmungai</dc:creator>
  <dc:description/>
  <dc:language>en-US</dc:language>
  <cp:lastModifiedBy>Lorna Wong</cp:lastModifiedBy>
  <dcterms:modified xsi:type="dcterms:W3CDTF">2002-06-27T20:59:49Z</dcterms:modified>
  <cp:revision>11</cp:revision>
  <dc:subject/>
  <dc:title>BUZZ WORD BINGO</dc:title>
</cp:coreProperties>
</file>